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4B4A-34FC-4481-898A-1B1C9426A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0764-1C3E-4E45-8D46-EFFC715D2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CDB1-F21C-4A85-8E93-6E4909B43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485D-10BC-461C-8D78-F284C01B0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7EAE-9687-4203-B765-EFA18C24B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278F-06EE-481D-BDD1-1030ED505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8FC4-B4AD-40F1-A12E-AD5E8DA4D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CD0F-A0F8-4C38-BA93-5AEBEA3E6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22AE-F5D1-4A42-B5BB-F4AA51B2F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0967-8FE3-4A9E-838F-B7688E0E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CBCD-479D-46E8-B8AF-9591267C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130C-F6CB-488C-A478-5C44F149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5B810-ACBB-4CC0-8836-5D58E625C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rcRect l="0" t="7204" r="7594" b="0"/>
          <a:stretch/>
        </p:blipFill>
        <p:spPr>
          <a:xfrm>
            <a:off x="7815240" y="1163520"/>
            <a:ext cx="1119240" cy="1668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2" name="Picture 10" descr=""/>
          <p:cNvPicPr/>
          <p:nvPr/>
        </p:nvPicPr>
        <p:blipFill>
          <a:blip r:embed="rId2"/>
          <a:stretch/>
        </p:blipFill>
        <p:spPr>
          <a:xfrm>
            <a:off x="7880400" y="4653000"/>
            <a:ext cx="1077840" cy="19130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3" name="Picture 161" descr=""/>
          <p:cNvPicPr/>
          <p:nvPr/>
        </p:nvPicPr>
        <p:blipFill>
          <a:blip r:embed="rId3"/>
          <a:stretch/>
        </p:blipFill>
        <p:spPr>
          <a:xfrm>
            <a:off x="7862760" y="2924280"/>
            <a:ext cx="1163880" cy="1550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6556320" y="1190520"/>
            <a:ext cx="1047960" cy="2359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3733920" y="542880"/>
            <a:ext cx="23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Sweep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1T20:30:00Z</dcterms:created>
  <dc:creator>Source Rock</dc:creator>
  <dc:description/>
  <dc:language>en-US</dc:language>
  <cp:lastModifiedBy>Source Rock</cp:lastModifiedBy>
  <dcterms:modified xsi:type="dcterms:W3CDTF">2018-05-03T00:21:29Z</dcterms:modified>
  <cp:revision>6</cp:revision>
  <dc:subject/>
  <dc:title>Slide 1</dc:title>
</cp:coreProperties>
</file>